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994-0835-4289-BF7C-A60F6712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F1E-4915-4E99-A952-3FE91E35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B07-8DE2-4198-8200-540C4534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3C6-1532-4A85-A457-F6A3DB34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4FEA-C27E-4D6B-9D81-7CF32365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C8E-44B0-400F-BD1F-E06BB8C2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FDE-F61D-4384-9E6F-AF7415C7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B7B8-0FD9-40BC-B8DB-0069CA84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3B2E-A61A-46FB-B6CD-F83BF21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AC42-E589-4A2D-8BF0-8FBA9B02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33DD-3709-48F1-8AB0-7CE061D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3C5-2984-4E95-B70C-9995EEE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28E-03F2-45ED-915A-853C01E0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1A1A-4F49-490E-A000-BC0B7C3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E92E-27D2-4A36-B693-D7203E78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6494-DB76-4CC0-BCD4-312553E1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B588-9606-470C-96C6-68166E6C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74A-8A34-43E6-AE9A-CC52FE30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F32-7B4E-4C20-9037-0066FECD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2AB-6226-4303-8DBD-8FA57E1B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7FE-3752-46B4-B1EF-54798BF9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562-D796-4C70-B5CC-B2E3A0C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94E-4562-43A8-AAC6-C3E591F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CFE-5CCA-49EC-A3B9-C75FD31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B8C-432E-4AD6-90B9-FFAF72B7D0C6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ED1D-261F-4B7A-8317-D0298C665943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831960"/>
            <a:ext cx="2089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2a3d7a"/>
                </a:solidFill>
                <a:latin typeface="Times New Roman"/>
              </a:rPr>
              <a:t>Filosofía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13320" y="852480"/>
            <a:ext cx="5548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Análisis coherente y racional que consistirá en el planteamiento y la respuesta de la cuestión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93" name="4 Conector angular"/>
          <p:cNvCxnSpPr>
            <a:stCxn id="91" idx="3"/>
            <a:endCxn id="92" idx="1"/>
          </p:cNvCxnSpPr>
          <p:nvPr/>
        </p:nvCxnSpPr>
        <p:spPr>
          <a:xfrm>
            <a:off x="3060360" y="1022400"/>
            <a:ext cx="553320" cy="190080"/>
          </a:xfrm>
          <a:prstGeom prst="bentConnector3">
            <a:avLst>
              <a:gd name="adj1" fmla="val 50000"/>
            </a:avLst>
          </a:prstGeom>
          <a:ln w="93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94" name="2 Marcador de contenido"/>
          <p:cNvSpPr/>
          <p:nvPr/>
        </p:nvSpPr>
        <p:spPr>
          <a:xfrm>
            <a:off x="573120" y="1555920"/>
            <a:ext cx="3779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b5249"/>
                </a:solidFill>
                <a:latin typeface="Times New Roman"/>
              </a:rPr>
              <a:t>Ciencias auxiliares de la Filosofí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684360" y="2612880"/>
            <a:ext cx="254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tudia al hombre en su dimensión universal e intenta aclarar su posición en el mund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1042920" y="218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Antrop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3471840" y="268920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6372360" y="335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Est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2 Marcador de contenido"/>
          <p:cNvSpPr/>
          <p:nvPr/>
        </p:nvSpPr>
        <p:spPr>
          <a:xfrm>
            <a:off x="725400" y="4005360"/>
            <a:ext cx="2551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Metafísica y Ont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597120" y="4968720"/>
            <a:ext cx="17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Lóg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6176880" y="5056200"/>
            <a:ext cx="2787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Filosofía del lenguaje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3354480" y="3154320"/>
            <a:ext cx="3017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u objetivo es mostrar de manera metodológicamente correcta los fundamentos para un comportamiento racional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6033960" y="3924360"/>
            <a:ext cx="3002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Trata de lo bello y las formas de su representación en las artes y en la naturaleza, además de sus efectos sobre los sujetos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2 Marcador de contenido"/>
          <p:cNvSpPr/>
          <p:nvPr/>
        </p:nvSpPr>
        <p:spPr>
          <a:xfrm>
            <a:off x="554040" y="4419720"/>
            <a:ext cx="352908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e entiende como la filosofía primera  en cuanto se pregunta por las primeras causas  y principios del ente en cuanto ente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2 Marcador de contenido"/>
          <p:cNvSpPr/>
          <p:nvPr/>
        </p:nvSpPr>
        <p:spPr>
          <a:xfrm>
            <a:off x="3314880" y="5275440"/>
            <a:ext cx="25524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 la teoría del pensar ordenado y argumentativ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257880" y="5427720"/>
            <a:ext cx="27068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Reflexiona sobre el origen, evolución, significado del lenguaje.  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12:15Z</dcterms:created>
  <dc:creator>MI ama</dc:creator>
  <dc:description/>
  <dc:language>en-US</dc:language>
  <cp:lastModifiedBy>MARIA DE LOS ANGELES   TORRE</cp:lastModifiedBy>
  <dcterms:modified xsi:type="dcterms:W3CDTF">2012-04-21T02:55:00Z</dcterms:modified>
  <cp:revision>18</cp:revision>
  <dc:subject/>
  <dc:title>Presentación de PowerPoint</dc:title>
</cp:coreProperties>
</file>