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A41-D59C-44AA-9AA4-4C2F7054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866-A0AE-4C8F-8418-2DB0FB6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E28-1EDB-4401-A8A2-5888E5D4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5F4-0F5E-4774-B451-8A8B824C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0A29-F2E8-44C0-A5C3-454A9868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0953-ED1B-42D5-A9AE-049D6B94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E00F-9CA8-4E85-A6BF-66137B7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B3D-57D8-41A7-93F8-DF3DA458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7F69-2738-4461-9E96-DC6C009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DE3-A25F-4A36-8C56-1E5B8AF9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3CEA-2406-4DD6-A4E7-8363818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919-5FB5-41A2-A4FB-9DD2003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387F-E403-4317-A005-813253C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861A-BB2A-4D91-A4DE-65ED2FD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F40-47E9-4907-8442-700CBCC0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59B6-A1EF-439C-B312-E7CE1B67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EFCF-60AE-4EC5-A609-29001416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09D-2F29-4567-8E42-07C5B3C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4142-727F-4C2E-964E-2923C165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6BA-F55B-4166-BA53-F1830331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988-DCBC-4592-8E29-2FF0E79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937-4065-426F-A850-6469A87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0E3-3DB3-4139-83D2-EFE6FED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5DF-4A15-4B54-87FA-F25BBC2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7FAD-47AF-41AC-8CBE-50430A238AB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790-8C2E-47DE-81B4-D8D7F230C470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831960"/>
            <a:ext cx="20890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2a3d7a"/>
                </a:solidFill>
                <a:latin typeface="Times New Roman"/>
              </a:rPr>
              <a:t>Filosofía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613320" y="852480"/>
            <a:ext cx="55483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Análisis coherente y racional que consistirá en el planteamiento y la respuesta de la cuestión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93" name="4 Conector angular"/>
          <p:cNvCxnSpPr>
            <a:stCxn id="91" idx="3"/>
            <a:endCxn id="92" idx="1"/>
          </p:cNvCxnSpPr>
          <p:nvPr/>
        </p:nvCxnSpPr>
        <p:spPr>
          <a:xfrm>
            <a:off x="3060360" y="1022400"/>
            <a:ext cx="553320" cy="190080"/>
          </a:xfrm>
          <a:prstGeom prst="bentConnector3">
            <a:avLst>
              <a:gd name="adj1" fmla="val 50000"/>
            </a:avLst>
          </a:prstGeom>
          <a:ln w="9360">
            <a:solidFill>
              <a:srgbClr val="5b5249"/>
            </a:solidFill>
            <a:miter/>
            <a:tailEnd len="med" type="arrow" w="med"/>
          </a:ln>
        </p:spPr>
      </p:cxnSp>
      <p:sp>
        <p:nvSpPr>
          <p:cNvPr id="94" name="2 Marcador de contenido"/>
          <p:cNvSpPr/>
          <p:nvPr/>
        </p:nvSpPr>
        <p:spPr>
          <a:xfrm>
            <a:off x="573120" y="1555920"/>
            <a:ext cx="37796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b5249"/>
                </a:solidFill>
                <a:latin typeface="Times New Roman"/>
              </a:rPr>
              <a:t>Ciencias auxiliares de la Filosofía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684360" y="2612880"/>
            <a:ext cx="2549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tudia al hombre en su dimensión universal e intenta aclarar su posición en el mund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2 Marcador de contenido"/>
          <p:cNvSpPr/>
          <p:nvPr/>
        </p:nvSpPr>
        <p:spPr>
          <a:xfrm>
            <a:off x="1042920" y="218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Antrop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3471840" y="268920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6372360" y="335592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Estét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2 Marcador de contenido"/>
          <p:cNvSpPr/>
          <p:nvPr/>
        </p:nvSpPr>
        <p:spPr>
          <a:xfrm>
            <a:off x="725400" y="4005360"/>
            <a:ext cx="2551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Metafísica y Ontologí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597120" y="4968720"/>
            <a:ext cx="17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Lógica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6176880" y="5056200"/>
            <a:ext cx="2787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5b5249"/>
                </a:solidFill>
                <a:uFillTx/>
                <a:latin typeface="Times New Roman"/>
              </a:rPr>
              <a:t>Filosofía del lenguaje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2 Marcador de contenido"/>
          <p:cNvSpPr/>
          <p:nvPr/>
        </p:nvSpPr>
        <p:spPr>
          <a:xfrm>
            <a:off x="3354480" y="3154320"/>
            <a:ext cx="30178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u objetivo es mostrar de manera metodológicamente correcta los fundamentos para un comportamiento racional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2 Marcador de contenido"/>
          <p:cNvSpPr/>
          <p:nvPr/>
        </p:nvSpPr>
        <p:spPr>
          <a:xfrm>
            <a:off x="6033960" y="3924360"/>
            <a:ext cx="30020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Trata de lo bello y las formas de su representación en las artes y en la naturaleza, además de sus efectos sobre los sujetos.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554040" y="4419720"/>
            <a:ext cx="3529080" cy="10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Se entiende como la filosofía primera  en cuanto se pregunta por las primeras causas  y principios del ente en cuanto ente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2 Marcador de contenido"/>
          <p:cNvSpPr/>
          <p:nvPr/>
        </p:nvSpPr>
        <p:spPr>
          <a:xfrm>
            <a:off x="3314880" y="5275440"/>
            <a:ext cx="255240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Es la teoría del pensar ordenado y argumentativo.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257880" y="5427720"/>
            <a:ext cx="270684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5b5249"/>
                </a:solidFill>
                <a:latin typeface="Times New Roman"/>
              </a:rPr>
              <a:t>Reflexiona sobre el origen, evolución, significado del lenguaje.   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12:15Z</dcterms:created>
  <dc:creator>MI ama</dc:creator>
  <dc:description/>
  <dc:language>en-US</dc:language>
  <cp:lastModifiedBy>MARIA DE LOS ANGELES   TORRE</cp:lastModifiedBy>
  <dcterms:modified xsi:type="dcterms:W3CDTF">2012-04-21T02:55:00Z</dcterms:modified>
  <cp:revision>18</cp:revision>
  <dc:subject/>
  <dc:title>Presentación de PowerPoint</dc:title>
</cp:coreProperties>
</file>