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E42-4978-41FC-BEAE-E66AC975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139-7F44-4961-89B8-1D3853EF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21DF-C779-4958-BAFD-7B38DBA6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0FC-59ED-4B26-BA39-62DB4B8F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EA54-5877-4589-A5E4-7EA86335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7E42-9216-4A58-9B77-5A497636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B8B8-B3A1-41C8-89C0-4033FE13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2C10-304E-4687-87F4-4AB254F8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3269-C301-4259-AADA-EAC96A5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AEA3-A547-4275-9723-A48B0265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4670-9F62-421C-864D-C0D4DBC4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DC18-8675-4843-94BE-3A5A9776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342D-6B0C-4064-9890-6FE38896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9F8-20B2-4D35-A183-F0CF830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42F5-115F-45DD-A4BC-C7683E97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7337-4269-4C9B-8A12-420216D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4193-2CD6-42B8-8D14-9AC4015E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AEA-D477-4B8B-90E6-9A2DAA6B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4CF9-6F7D-480B-A53E-3ACD0B4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F3B-471F-4039-B7BD-A9332733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F9C-A3D4-4A52-908E-28808BC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8E4-42E3-4317-91F7-31F97561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A1C-EF0E-44BC-AE9D-B26095E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D37-BC95-4BAE-BC02-19E62A4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1AB2-66C6-47DD-9242-6CE0AE4980DD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A8DF-1A04-48E7-B38C-65C51A1BBE0A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831960"/>
            <a:ext cx="2089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2a3d7a"/>
                </a:solidFill>
                <a:latin typeface="Times New Roman"/>
              </a:rPr>
              <a:t>Filosofía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13320" y="852480"/>
            <a:ext cx="5548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Análisis coherente y racional que consistirá en el planteamiento y la respuesta de la cuestión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93" name="4 Conector angular"/>
          <p:cNvCxnSpPr>
            <a:stCxn id="91" idx="3"/>
            <a:endCxn id="92" idx="1"/>
          </p:cNvCxnSpPr>
          <p:nvPr/>
        </p:nvCxnSpPr>
        <p:spPr>
          <a:xfrm>
            <a:off x="3060360" y="1022400"/>
            <a:ext cx="553320" cy="190080"/>
          </a:xfrm>
          <a:prstGeom prst="bentConnector3">
            <a:avLst>
              <a:gd name="adj1" fmla="val 50000"/>
            </a:avLst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94" name="2 Marcador de contenido"/>
          <p:cNvSpPr/>
          <p:nvPr/>
        </p:nvSpPr>
        <p:spPr>
          <a:xfrm>
            <a:off x="573120" y="1555920"/>
            <a:ext cx="3779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Ciencias auxiliares de la Filosofí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684360" y="2612880"/>
            <a:ext cx="254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tudia al hombre en su dimensión universal e intenta aclarar su posición en el mund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1042920" y="218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Antrop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3471840" y="268920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6372360" y="335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Est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2 Marcador de contenido"/>
          <p:cNvSpPr/>
          <p:nvPr/>
        </p:nvSpPr>
        <p:spPr>
          <a:xfrm>
            <a:off x="725400" y="4005360"/>
            <a:ext cx="2551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Metafísica y Ont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597120" y="4968720"/>
            <a:ext cx="17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Lóg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6176880" y="5056200"/>
            <a:ext cx="2787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Filosofía del lenguaje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3354480" y="3154320"/>
            <a:ext cx="3017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u objetivo es mostrar de manera metodológicamente correcta los fundamentos para un comportamiento racional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6033960" y="3924360"/>
            <a:ext cx="3002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Trata de lo bello y las formas de su representación en las artes y en la naturaleza, además de sus efectos sobre los sujetos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554040" y="4419720"/>
            <a:ext cx="352908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e entiende como la filosofía primera  en cuanto se pregunta por las primeras causas  y principios del ente en cuanto ente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3314880" y="5275440"/>
            <a:ext cx="25524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 la teoría del pensar ordenado y argumentativ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257880" y="5427720"/>
            <a:ext cx="27068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Reflexiona sobre el origen, evolución, significado del lenguaje.  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12:15Z</dcterms:created>
  <dc:creator>MI ama</dc:creator>
  <dc:description/>
  <dc:language>en-US</dc:language>
  <cp:lastModifiedBy>MARIA DE LOS ANGELES   TORRE</cp:lastModifiedBy>
  <dcterms:modified xsi:type="dcterms:W3CDTF">2012-04-21T02:55:00Z</dcterms:modified>
  <cp:revision>18</cp:revision>
  <dc:subject/>
  <dc:title>Presentación de PowerPoint</dc:title>
</cp:coreProperties>
</file>