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53D-4691-4344-AFEF-0DDC37EA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FA8-5B42-4C6E-B52C-4C46E998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446-ED6F-4B56-8534-30952C2F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16F-BCED-46D1-8D8E-F250B74A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F9A6-42E0-4968-AD1E-684E5D85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2BAD-7DC6-4239-BC2A-560E2179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4CDB-1A04-4746-B2C6-77C0C220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6F9F-451A-4B3E-A6FE-34F57315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8B35-1346-41BB-9F11-A94D83A6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3264-20B4-4290-BF9F-DF47F7CE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A3C8-908B-41A1-A8E3-924B2380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D32-9870-4AA6-AFEB-68AA192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AE13-B459-455E-B13A-785C9ECB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27A4-F512-4B59-A9DC-AA2841B4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5D83-1AFC-40E3-A7CB-E29267A1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F1F5-1E3F-4758-A07C-773925CD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D620-EE96-4D2C-B5D4-B102CFFF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6FD-86CB-4A95-A7D8-7A01D75F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146-E129-43D0-B718-084F4A2F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8F0-A315-4022-979F-E8406C1D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24B-CDD7-4866-A40A-0B87E9C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594-F8CC-4DE5-BCEE-BD5BF40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1AA-4A5F-4E0B-AC65-AC2BE86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17A-0EC6-4E86-9CBD-B8ED41F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4B92-97F0-4535-BDD0-7D9550220062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F86B-5EAA-4F77-93CD-5E9A26F89ABF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831960"/>
            <a:ext cx="20890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2a3d7a"/>
                </a:solidFill>
                <a:latin typeface="Times New Roman"/>
              </a:rPr>
              <a:t>Filosofía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613320" y="852480"/>
            <a:ext cx="55483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Análisis coherente y racional que consistirá en el planteamiento y la respuesta de la cuestión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93" name="4 Conector angular"/>
          <p:cNvCxnSpPr>
            <a:stCxn id="91" idx="3"/>
            <a:endCxn id="92" idx="1"/>
          </p:cNvCxnSpPr>
          <p:nvPr/>
        </p:nvCxnSpPr>
        <p:spPr>
          <a:xfrm>
            <a:off x="3060360" y="1022400"/>
            <a:ext cx="553320" cy="190080"/>
          </a:xfrm>
          <a:prstGeom prst="bentConnector3">
            <a:avLst>
              <a:gd name="adj1" fmla="val 50000"/>
            </a:avLst>
          </a:prstGeom>
          <a:ln w="93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94" name="2 Marcador de contenido"/>
          <p:cNvSpPr/>
          <p:nvPr/>
        </p:nvSpPr>
        <p:spPr>
          <a:xfrm>
            <a:off x="573120" y="1555920"/>
            <a:ext cx="3779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b5249"/>
                </a:solidFill>
                <a:latin typeface="Times New Roman"/>
              </a:rPr>
              <a:t>Ciencias auxiliares de la Filosofí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684360" y="2612880"/>
            <a:ext cx="254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Estudia al hombre en su dimensión universal e intenta aclarar su posición en el mundo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1042920" y="218592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Antropologí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3471840" y="268920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Ét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6372360" y="335592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Estét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2 Marcador de contenido"/>
          <p:cNvSpPr/>
          <p:nvPr/>
        </p:nvSpPr>
        <p:spPr>
          <a:xfrm>
            <a:off x="725400" y="4005360"/>
            <a:ext cx="2551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Metafísica y Ontologí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597120" y="4968720"/>
            <a:ext cx="17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Lóg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6176880" y="5056200"/>
            <a:ext cx="2787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Filosofía del lenguaje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2 Marcador de contenido"/>
          <p:cNvSpPr/>
          <p:nvPr/>
        </p:nvSpPr>
        <p:spPr>
          <a:xfrm>
            <a:off x="3354480" y="3154320"/>
            <a:ext cx="3017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Su objetivo es mostrar de manera metodológicamente correcta los fundamentos para un comportamiento racional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6033960" y="3924360"/>
            <a:ext cx="3002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Trata de lo bello y las formas de su representación en las artes y en la naturaleza, además de sus efectos sobre los sujetos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2 Marcador de contenido"/>
          <p:cNvSpPr/>
          <p:nvPr/>
        </p:nvSpPr>
        <p:spPr>
          <a:xfrm>
            <a:off x="554040" y="4419720"/>
            <a:ext cx="352908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Se entiende como la filosofía primera  en cuanto se pregunta por las primeras causas  y principios del ente en cuanto ente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2 Marcador de contenido"/>
          <p:cNvSpPr/>
          <p:nvPr/>
        </p:nvSpPr>
        <p:spPr>
          <a:xfrm>
            <a:off x="3314880" y="5275440"/>
            <a:ext cx="25524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Es la teoría del pensar ordenado y argumentativo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257880" y="5427720"/>
            <a:ext cx="27068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Reflexiona sobre el origen, evolución, significado del lenguaje.  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12:15Z</dcterms:created>
  <dc:creator>MI ama</dc:creator>
  <dc:description/>
  <dc:language>en-US</dc:language>
  <cp:lastModifiedBy>MARIA DE LOS ANGELES   TORRE</cp:lastModifiedBy>
  <dcterms:modified xsi:type="dcterms:W3CDTF">2012-04-21T02:55:00Z</dcterms:modified>
  <cp:revision>18</cp:revision>
  <dc:subject/>
  <dc:title>Presentación de PowerPoint</dc:title>
</cp:coreProperties>
</file>